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6F0-79BB-4514-A590-BCC896E1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C13-A5B0-4894-844C-AB58B49F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960-6FFF-4741-8A54-1FAD4552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F13-B4F3-46FA-86BC-E7208048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D4B7-2FE3-4BB3-9C0A-B4244C19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F8C4-1428-435A-A8D6-C04252A9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F61A-9368-41C8-8486-8604F998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68AE-85A9-4D29-A610-B105D5E4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37BF-999B-4A3B-8AB9-CF276553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263F-63D6-499C-97F6-EB77E80C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76E6-775E-4B3A-806D-BA1DF9C0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507-7C1C-48B2-BBC7-BF94435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D604-B6F5-46AC-92DE-EF9781A8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D49E-6388-4882-AC54-0DAC8E11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936C-A7CF-48D5-BBE1-F37D211C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A111-8837-4A33-8CCE-4FA47100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47B3-E5E3-4BDE-ADFE-890CD55E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409-2F34-4C14-BE08-E946A9D9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C29-D82B-4163-AA6F-8AB88A59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3DB-37BC-45FC-AA9D-E717AFD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417-C2A5-435C-A3EA-22B57783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1BF-D58C-4B96-8942-8467927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5AB-5710-477F-B857-A5C5A59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0BA-0A0C-4013-B4DB-374F8E29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9591-9FBB-478F-9567-A8182EACDE9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355D-4BE6-4E78-AF34-C5C5BD8ECCB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chael Oh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ntique Olive Roman"/>
              </a:rPr>
              <a:t>Il habite a Baltimore, Maryland. Michael Oher est énorme et fort. Michael Oher est amèricai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3016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ckie Cha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ackie habite à Hong Kong. Jackie est chinois. Jackie Chan est genial et amusa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ristian Bai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ristian habite à Wales. Christian est grand et musculaire. Christian est anglai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240" y="301320"/>
            <a:ext cx="85345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ordan Jovtchev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ordan habite en Bulgarie. Jordan est amusant et déterminé. Jordan est bulga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01320"/>
            <a:ext cx="8610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ly Raisman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y Raisman habite à Needham. Aly est musculaire est sympa. Aly est americai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7:48:34Z</dcterms:created>
  <dc:creator>sunderlanddav</dc:creator>
  <dc:description/>
  <dc:language>en-US</dc:language>
  <cp:lastModifiedBy>sunderlanddav</cp:lastModifiedBy>
  <dcterms:modified xsi:type="dcterms:W3CDTF">2012-10-03T12:33:41Z</dcterms:modified>
  <cp:revision>7</cp:revision>
  <dc:subject/>
  <dc:title>Michael Oher</dc:title>
</cp:coreProperties>
</file>